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9518-932E-411F-80DA-408090610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86D7-C788-4E9B-B034-08A023F6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4C8C-4627-4B18-9E08-9B36BDF2E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C6AD-FAD2-4872-9453-466873B23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6EE2-185E-4EF0-A456-EDA82B74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CBB7-24A3-4E43-9382-3ABDC358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8F89-16D7-4A1C-B690-AD229FA9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1183-E849-42F7-BB47-4AF2E012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F6B6-DC6C-494E-9094-123FE644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60EB-E60A-434B-91A8-1D715073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8CBF-8047-4F7F-82E6-16534F53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912C-7792-4BCF-AE6E-BE2AAA6F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420B-2A0A-4FAC-B765-7E423A3590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name_extension" TargetMode="External"/><Relationship Id="rId2" Type="http://schemas.openxmlformats.org/officeDocument/2006/relationships/hyperlink" Target="http://en.wikipedia.org/wiki/Filename_extension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at are File Extension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0" y="30492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filename extension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or file type) is a suffix appended to the name of a computer file that indicates the encoding convention (file format) of its contents. The file type follows the ‘dot’ (e.g.   .doc, .pdf, etc.) and is usually 3 or 4 characters in length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simpler explanation is that a filename extension indicates which software application created the file. Microsoft Operating Systems requires a file to have an extension. Other operating systems (e.g. Linux) do not require a file to have an exten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you create and save a file, the extension is usually appended to the file automatically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you remove the filename extension from a file name, you may corrupt the file and render it unus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following slides list some common filename extensions you may have encountered befo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re are some common filename extensions you may have encountered befor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304920" y="1600200"/>
            <a:ext cx="7543800" cy="32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jpeg 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Joint Photographic Experts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only used graphics file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jpeg will usually take on the icon assigned to that file extension by the software that created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image.jpg"/>
          <p:cNvPicPr/>
          <p:nvPr/>
        </p:nvPicPr>
        <p:blipFill>
          <a:blip r:embed="rId1"/>
          <a:stretch/>
        </p:blipFill>
        <p:spPr>
          <a:xfrm>
            <a:off x="3429000" y="4419720"/>
            <a:ext cx="164628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mpeg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oving Picture Experts Group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only used video file typ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movie.jpg"/>
          <p:cNvPicPr/>
          <p:nvPr/>
        </p:nvPicPr>
        <p:blipFill>
          <a:blip r:embed="rId1"/>
          <a:stretch/>
        </p:blipFill>
        <p:spPr>
          <a:xfrm>
            <a:off x="3809880" y="2590920"/>
            <a:ext cx="197172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wav 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Waveform audio forma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only used sound fi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sound.jpg"/>
          <p:cNvPicPr/>
          <p:nvPr/>
        </p:nvPicPr>
        <p:blipFill>
          <a:blip r:embed="rId1"/>
          <a:stretch/>
        </p:blipFill>
        <p:spPr>
          <a:xfrm>
            <a:off x="3787920" y="2490840"/>
            <a:ext cx="181764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mp3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PEG-1 Audio Layer 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only used sound fil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1371600" y="1981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ompression protocols on this file type make it ideal for fast downloading and playback of mu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music.jpg"/>
          <p:cNvPicPr/>
          <p:nvPr/>
        </p:nvPicPr>
        <p:blipFill>
          <a:blip r:embed="rId1"/>
          <a:stretch/>
        </p:blipFill>
        <p:spPr>
          <a:xfrm>
            <a:off x="3886200" y="3048120"/>
            <a:ext cx="157788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ppt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ate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S PowerPoint file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only Used MS Presentation Application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power.jpg"/>
          <p:cNvPicPr/>
          <p:nvPr/>
        </p:nvPicPr>
        <p:blipFill>
          <a:blip r:embed="rId1"/>
          <a:stretch/>
        </p:blipFill>
        <p:spPr>
          <a:xfrm>
            <a:off x="3664080" y="2127240"/>
            <a:ext cx="167004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xls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S Excel Spreadsheet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finance.jpg"/>
          <p:cNvPicPr/>
          <p:nvPr/>
        </p:nvPicPr>
        <p:blipFill>
          <a:blip r:embed="rId1"/>
          <a:stretch/>
        </p:blipFill>
        <p:spPr>
          <a:xfrm>
            <a:off x="3505320" y="2135160"/>
            <a:ext cx="18349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doc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S Word Docume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d Processing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Word 2007 files have a .docx extension) </a:t>
            </a: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doc1.jpg"/>
          <p:cNvPicPr/>
          <p:nvPr/>
        </p:nvPicPr>
        <p:blipFill>
          <a:blip r:embed="rId1"/>
          <a:stretch/>
        </p:blipFill>
        <p:spPr>
          <a:xfrm>
            <a:off x="3429000" y="1976400"/>
            <a:ext cx="16970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4:54:47Z</dcterms:created>
  <dc:creator>Administrator</dc:creator>
  <dc:description/>
  <dc:language>en-US</dc:language>
  <cp:lastModifiedBy>Administrator</cp:lastModifiedBy>
  <dcterms:modified xsi:type="dcterms:W3CDTF">2009-03-10T16:44:18Z</dcterms:modified>
  <cp:revision>16</cp:revision>
  <dc:subject/>
  <dc:title>What are File Extension?</dc:title>
</cp:coreProperties>
</file>